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AA54B-41FF-4C29-9C93-D3DB03570A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E0C66-1533-4064-91B6-31E61F1229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72285-E897-4031-A0AB-FD797ACE56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F76F3-9A0B-4DDB-A8A6-D96009AED2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E91BE-234B-4604-AABE-41CFF43061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10649-3BCE-43A5-B15F-85AC312AC0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4782F-FF36-4A2C-8E13-E2EB188C4E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7163D-9057-4FE0-B3EF-40CE5C3287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EEE2C-786F-4079-BA12-03DBF5DF92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5676E-010D-49F7-80F6-7BFFE95A6B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4FB7A-AC6C-4481-9323-76EAE14DAE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47F92-0BBE-4F11-AC50-97AF1E7733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648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5f5d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27040" cy="68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DF08E-0715-412A-A13F-168E6C5EC6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3240" y="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94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168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396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66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50976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6480" y="2895480"/>
            <a:ext cx="5883120" cy="76320"/>
          </a:xfrm>
          <a:prstGeom prst="rect">
            <a:avLst/>
          </a:prstGeom>
          <a:gradFill rotWithShape="0">
            <a:gsLst>
              <a:gs pos="0">
                <a:srgbClr val="466e6c"/>
              </a:gs>
              <a:gs pos="50000">
                <a:srgbClr val="203231"/>
              </a:gs>
              <a:gs pos="100000">
                <a:srgbClr val="466e6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04880" y="601560"/>
            <a:ext cx="2274840" cy="1098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61960" y="208476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MO Update to 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20640" y="3048120"/>
            <a:ext cx="5808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oy Anders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 Management Off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ch 9, 200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52480" y="763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Project Priority List (PP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52280" y="129528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 fontScale="89000"/>
          </a:bodyPr>
          <a:p>
            <a:pPr marL="259560" indent="-25956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486396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te of the PP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95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486396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566280" indent="-20448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486396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PL changes relating to RM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67600" indent="-199080">
              <a:lnSpc>
                <a:spcPct val="90000"/>
              </a:lnSpc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486396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odestar Enhancement SIRs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– Execution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– MO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– Rank 0.01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22280" indent="-248760">
              <a:lnSpc>
                <a:spcPct val="90000"/>
              </a:lnSpc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486396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R 488 – Weather Responsiveness Determin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867600" indent="-199080">
              <a:lnSpc>
                <a:spcPct val="90000"/>
              </a:lnSpc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486396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isclosure of Local Congestion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– Planning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– MO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– Rank 0.3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22280" indent="-248760">
              <a:lnSpc>
                <a:spcPct val="90000"/>
              </a:lnSpc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486396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R 515 – Disclosure of Local Conges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867600" indent="-199080">
              <a:lnSpc>
                <a:spcPct val="90000"/>
              </a:lnSpc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486396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exas SET 2.1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– Initiation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– RO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– Rank 6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867600" indent="-199080">
              <a:lnSpc>
                <a:spcPct val="90000"/>
              </a:lnSpc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486396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nhancements to FasTrak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– Initiation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– RO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– Rank 9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867600" indent="-199080">
              <a:lnSpc>
                <a:spcPct val="90000"/>
              </a:lnSpc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486396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DR Optional Threshold Removal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– Cancelled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– MO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– Rank 11.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867600" indent="-199080">
              <a:lnSpc>
                <a:spcPct val="90000"/>
              </a:lnSpc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486396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Market Information Distribution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– Planning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– RO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– Rank 17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22280" indent="-248760">
              <a:lnSpc>
                <a:spcPct val="90000"/>
              </a:lnSpc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486396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ubproject to Service Oriented Architectur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867600" indent="-199080">
              <a:lnSpc>
                <a:spcPct val="90000"/>
              </a:lnSpc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486396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IR Enhancement Release 5.2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– Planning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– MO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– Rank 2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22280" indent="-248760">
              <a:lnSpc>
                <a:spcPct val="90000"/>
              </a:lnSpc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486396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R 420 – Modified Competitive Solution Metho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935360" indent="-2145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486396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utomation of existing manual workaround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935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86396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66280" indent="-20448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486396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test PPL to be posted to ERCOT.com by 3/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E1C84-6A04-443A-BFE9-2C1498EABC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3048120"/>
            <a:ext cx="3048120" cy="457200"/>
          </a:xfrm>
          <a:prstGeom prst="rightArrow">
            <a:avLst>
              <a:gd name="adj1" fmla="val 50000"/>
              <a:gd name="adj2" fmla="val 166673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7920" y="10152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d5f5d"/>
                </a:solidFill>
                <a:latin typeface="Arial"/>
              </a:rPr>
              <a:t>MO 2005 Release Plans</a:t>
            </a: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3886200"/>
            <a:ext cx="20113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lease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-40066_01 Lodestar 3.7 Upgrade (1.0 – 2004 carry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1600200"/>
            <a:ext cx="2133720" cy="914400"/>
          </a:xfrm>
          <a:prstGeom prst="rect">
            <a:avLst/>
          </a:prstGeom>
          <a:solidFill>
            <a:srgbClr val="308076">
              <a:alpha val="4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lements/Bi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ad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Aggre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1600200"/>
            <a:ext cx="4191120" cy="914400"/>
          </a:xfrm>
          <a:prstGeom prst="rect">
            <a:avLst/>
          </a:prstGeom>
          <a:solidFill>
            <a:srgbClr val="308076">
              <a:alpha val="4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de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V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CR/R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G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1219320"/>
            <a:ext cx="41911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kehol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1219320"/>
            <a:ext cx="41911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60800" y="2666880"/>
            <a:ext cx="1411200" cy="307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2 ‘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0" y="2666880"/>
            <a:ext cx="1467000" cy="307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3 ‘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847880" y="2666880"/>
            <a:ext cx="1352520" cy="307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1 ‘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9960" y="2666880"/>
            <a:ext cx="1428840" cy="307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4 ‘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39000" y="2666880"/>
            <a:ext cx="1371600" cy="307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4 ‘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410600" y="2666880"/>
            <a:ext cx="1352520" cy="307080"/>
          </a:xfrm>
          <a:prstGeom prst="rect">
            <a:avLst/>
          </a:prstGeom>
          <a:solidFill>
            <a:srgbClr val="3b5d59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1 ‘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38880" y="3081240"/>
            <a:ext cx="2500200" cy="457200"/>
          </a:xfrm>
          <a:prstGeom prst="rightArrow">
            <a:avLst>
              <a:gd name="adj1" fmla="val 50000"/>
              <a:gd name="adj2" fmla="val 136713"/>
            </a:avLst>
          </a:prstGeom>
          <a:solidFill>
            <a:srgbClr val="3b5d59">
              <a:alpha val="6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53080" y="3138480"/>
            <a:ext cx="18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ease “C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90920" y="3886200"/>
            <a:ext cx="1904760" cy="215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lease B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-40075 SIR Enhancement (1.0 – 2004 carry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R48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-30026 EPS/RID Meter Data Extracts (1.0 – 2004 carry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MMS Release 4 (4 MO projects) (1.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-40015 TCR Report Enhancements (1.0 – 2004 carry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R-50010 SIR Enhancement 5.2 (1.1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629400" y="3886200"/>
            <a:ext cx="213372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lease 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-50024 SCR 740 Enhancements to SCR 727 (1.2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MMS Release 5 (TBD projects) (1.1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R-50012 SIR Enhancement 5.4 (1.1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R-50025 Enhance ESI-ID Look-up Function (1.2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3538440"/>
            <a:ext cx="685800" cy="228600"/>
          </a:xfrm>
          <a:prstGeom prst="rect">
            <a:avLst/>
          </a:prstGeom>
          <a:solidFill>
            <a:srgbClr val="ffff00">
              <a:alpha val="7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200400"/>
            <a:ext cx="790560" cy="228600"/>
          </a:xfrm>
          <a:prstGeom prst="rect">
            <a:avLst/>
          </a:prstGeom>
          <a:solidFill>
            <a:srgbClr val="3b5d59">
              <a:alpha val="7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100320"/>
            <a:ext cx="22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ease “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00400" y="3429000"/>
            <a:ext cx="3505320" cy="457200"/>
          </a:xfrm>
          <a:prstGeom prst="rightArrow">
            <a:avLst>
              <a:gd name="adj1" fmla="val 50000"/>
              <a:gd name="adj2" fmla="val 191673"/>
            </a:avLst>
          </a:prstGeom>
          <a:solidFill>
            <a:srgbClr val="ffff00">
              <a:alpha val="7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352680" y="3479760"/>
            <a:ext cx="24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ease “B1” &amp; “B2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705720" y="1600200"/>
            <a:ext cx="2057400" cy="914400"/>
          </a:xfrm>
          <a:prstGeom prst="rect">
            <a:avLst/>
          </a:prstGeom>
          <a:solidFill>
            <a:srgbClr val="308076">
              <a:alpha val="4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R/R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G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lesale Client Re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lement Met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3886200"/>
            <a:ext cx="190512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lease B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-40007 SCR 727 Phase 2 (1.1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-40093 RMR Automation (1.0 – 2004 carry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R-40108 PRR515 Disclosure of Local Congestion (1.0 – 2004 carry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-40104 Zero Charge Enhancements (1.0 – 2004 carry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R-50011 SIR Enhancement 5.3 (1.1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097F1-1FE6-4F9E-8FB0-532C10891C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57200" y="3048120"/>
            <a:ext cx="3048120" cy="457200"/>
          </a:xfrm>
          <a:prstGeom prst="rightArrow">
            <a:avLst>
              <a:gd name="adj1" fmla="val 50000"/>
              <a:gd name="adj2" fmla="val 166673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92468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d5f5d"/>
                </a:solidFill>
                <a:latin typeface="Arial"/>
              </a:rPr>
              <a:t>Retail Ops 2005 Release Plans</a:t>
            </a: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4518000"/>
            <a:ext cx="2514600" cy="11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lease RO 5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-40066_03 Siebel Upgrade (1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-40019 Retail Testing Website (1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1600200"/>
            <a:ext cx="4191120" cy="914400"/>
          </a:xfrm>
          <a:prstGeom prst="rect">
            <a:avLst/>
          </a:prstGeom>
          <a:solidFill>
            <a:srgbClr val="308076">
              <a:alpha val="4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ail Transaction Proce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Transparency and Rpt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I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ail Market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ail Client Servic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ail Market Re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I ID Retail – WS Syn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ail Market Te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1600200"/>
            <a:ext cx="4191120" cy="914400"/>
          </a:xfrm>
          <a:prstGeom prst="rect">
            <a:avLst/>
          </a:prstGeom>
          <a:solidFill>
            <a:srgbClr val="308076">
              <a:alpha val="4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I (SeeBeyond/TIBC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erF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 Te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1254240"/>
            <a:ext cx="4191120" cy="345960"/>
          </a:xfrm>
          <a:prstGeom prst="rect">
            <a:avLst/>
          </a:prstGeom>
          <a:solidFill>
            <a:srgbClr val="308076">
              <a:alpha val="4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kehol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1254240"/>
            <a:ext cx="4191120" cy="345960"/>
          </a:xfrm>
          <a:prstGeom prst="rect">
            <a:avLst/>
          </a:prstGeom>
          <a:solidFill>
            <a:srgbClr val="308076">
              <a:alpha val="4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60800" y="2666880"/>
            <a:ext cx="1411200" cy="307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2 ‘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2666880"/>
            <a:ext cx="1467000" cy="307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3 ‘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47880" y="2666880"/>
            <a:ext cx="1352520" cy="307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1 ‘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9960" y="2666880"/>
            <a:ext cx="1428840" cy="307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4 ‘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39000" y="2666880"/>
            <a:ext cx="1371600" cy="307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4 ‘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410600" y="2666880"/>
            <a:ext cx="1352520" cy="307080"/>
          </a:xfrm>
          <a:prstGeom prst="rect">
            <a:avLst/>
          </a:prstGeom>
          <a:solidFill>
            <a:srgbClr val="3b5d59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1 ‘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38880" y="3081240"/>
            <a:ext cx="2500200" cy="457200"/>
          </a:xfrm>
          <a:prstGeom prst="rightArrow">
            <a:avLst>
              <a:gd name="adj1" fmla="val 50000"/>
              <a:gd name="adj2" fmla="val 136713"/>
            </a:avLst>
          </a:prstGeom>
          <a:solidFill>
            <a:srgbClr val="3b5d59">
              <a:alpha val="6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53080" y="3138480"/>
            <a:ext cx="18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ease RO 5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00400" y="4495680"/>
            <a:ext cx="2666880" cy="11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lease RO 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-40106 ERCOT.com (1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-50026 SIR Enhancements (1.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-40034 Texas SET 2.1 (1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19920" y="4503600"/>
            <a:ext cx="2666880" cy="11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lease 5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-50007 SCR 738 (1.1) Enhancements to Fast Tra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-50023 Potential Load Loss (1.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438280" y="3581280"/>
            <a:ext cx="685800" cy="228600"/>
          </a:xfrm>
          <a:prstGeom prst="rect">
            <a:avLst/>
          </a:prstGeom>
          <a:solidFill>
            <a:srgbClr val="ffff00">
              <a:alpha val="7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86400" y="3200400"/>
            <a:ext cx="790560" cy="228600"/>
          </a:xfrm>
          <a:prstGeom prst="rect">
            <a:avLst/>
          </a:prstGeom>
          <a:solidFill>
            <a:srgbClr val="3b5d59">
              <a:alpha val="7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3100320"/>
            <a:ext cx="22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ease RO 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00400" y="3505320"/>
            <a:ext cx="3809880" cy="457200"/>
          </a:xfrm>
          <a:prstGeom prst="rightArrow">
            <a:avLst>
              <a:gd name="adj1" fmla="val 50000"/>
              <a:gd name="adj2" fmla="val 208327"/>
            </a:avLst>
          </a:prstGeom>
          <a:solidFill>
            <a:srgbClr val="ffff00">
              <a:alpha val="7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08280" y="3552840"/>
            <a:ext cx="22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ease RO 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3886200"/>
            <a:ext cx="7924680" cy="533520"/>
          </a:xfrm>
          <a:prstGeom prst="rightArrow">
            <a:avLst>
              <a:gd name="adj1" fmla="val 50000"/>
              <a:gd name="adj2" fmla="val 371339"/>
            </a:avLst>
          </a:prstGeom>
          <a:solidFill>
            <a:srgbClr val="ccffff">
              <a:alpha val="7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ease RO 6.0 S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95280" y="5791320"/>
            <a:ext cx="4343400" cy="946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lease RO 6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-50121 Service Oriented Architecture (1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ing sub-projects of PR-5012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-50121_03 Market Information Distrib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76520" y="3581280"/>
            <a:ext cx="685800" cy="228600"/>
          </a:xfrm>
          <a:prstGeom prst="rect">
            <a:avLst/>
          </a:prstGeom>
          <a:solidFill>
            <a:srgbClr val="ffff00">
              <a:alpha val="7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A406F-1E31-4256-8F3E-E11D1A5914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2:55:16Z</dcterms:created>
  <dc:creator>Rob Connell</dc:creator>
  <dc:description/>
  <dc:language>en-US</dc:language>
  <cp:lastModifiedBy>A. Boren</cp:lastModifiedBy>
  <dcterms:modified xsi:type="dcterms:W3CDTF">2005-03-02T17:07:13Z</dcterms:modified>
  <cp:revision>82</cp:revision>
  <dc:subject/>
  <dc:title>Slide 1</dc:title>
</cp:coreProperties>
</file>